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D53A-D9FB-4CF9-8914-85106804F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264E-4300-4DF1-ADC0-C26238E815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5DB8-846E-4A0D-876A-0CB58F947FE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334D-7F2C-466A-B601-BF8CE3A239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5B73-5073-409A-977E-48660396C4C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78A8-FD24-4CAD-95D3-A09489E7A8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9BA8-2671-4001-90E9-B3F5104DDA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DE1B-2D4B-4F82-BAA9-30D0C5FD8CF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E4C-922C-44D6-81BA-76C047B9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B1C-9CE8-405D-9EB5-AA2134E5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BDD3-7B7F-48A3-9209-6A42933AE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052C-4A2A-43A6-92DC-F24B755B1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29FD-130F-471D-AE50-AE21923A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8C54-ABE1-4AE2-A244-02887A46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BEC0-9F4A-4C90-B714-A1E2B55D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0781-66F8-4364-B741-425B9542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9149-EBC1-45B0-987F-685F2826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E542-4F64-49A5-A461-32EEEDC5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8AD3-686E-4AE9-88D8-6082D723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D8F-EF77-428C-8F76-2B2F5579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3610-93A4-4340-A845-6FBF5A4B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1341-179C-41C8-865E-7B7ABDDE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2621-3829-4920-8A9B-85267C52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3688-E9DE-42F2-B9C8-11F2F58D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6B74-699E-43A2-9DEE-08519925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D7C-E5A4-430A-9DE9-BB7FCAB4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B7AA-E26F-47CA-A658-BF75A937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2C2C-14E2-4B29-BD0C-FD305CAE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BF8-45A5-4685-8A85-10F69CAA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4FEE-0B5B-42E0-85A8-B3F27083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B078-2EA4-436C-AF12-A0CB0A6C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6A18-7676-44A2-B767-3F948D75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0743-83CB-495E-9606-00EFD1B0DC4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E121-DBD7-4EA3-9298-055E3CED82C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earning Autobiograph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rough pictur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yr fence.jpg"/>
          <p:cNvPicPr/>
          <p:nvPr/>
        </p:nvPicPr>
        <p:blipFill>
          <a:blip r:embed="rId1"/>
          <a:stretch/>
        </p:blipFill>
        <p:spPr>
          <a:xfrm>
            <a:off x="2666880" y="685800"/>
            <a:ext cx="341172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18yrs hs grad w buds.jpg"/>
          <p:cNvPicPr/>
          <p:nvPr/>
        </p:nvPicPr>
        <p:blipFill>
          <a:blip r:embed="rId1"/>
          <a:stretch/>
        </p:blipFill>
        <p:spPr>
          <a:xfrm>
            <a:off x="1854360" y="1617840"/>
            <a:ext cx="5435280" cy="36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1752480" y="1523880"/>
            <a:ext cx="5410440" cy="41911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scan0001.jpg"/>
          <p:cNvPicPr/>
          <p:nvPr/>
        </p:nvPicPr>
        <p:blipFill>
          <a:blip r:embed="rId1"/>
          <a:stretch/>
        </p:blipFill>
        <p:spPr>
          <a:xfrm>
            <a:off x="1219320" y="1676520"/>
            <a:ext cx="6254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PIM3703.JPG"/>
          <p:cNvPicPr/>
          <p:nvPr/>
        </p:nvPicPr>
        <p:blipFill>
          <a:blip r:embed="rId1"/>
          <a:stretch/>
        </p:blipFill>
        <p:spPr>
          <a:xfrm>
            <a:off x="1143000" y="8380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SC_0099.JPG"/>
          <p:cNvPicPr/>
          <p:nvPr/>
        </p:nvPicPr>
        <p:blipFill>
          <a:blip r:embed="rId1"/>
          <a:stretch/>
        </p:blipFill>
        <p:spPr>
          <a:xfrm>
            <a:off x="1143000" y="990720"/>
            <a:ext cx="697860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2:21:26Z</dcterms:created>
  <dc:creator>bdub40</dc:creator>
  <dc:description/>
  <dc:language>en-US</dc:language>
  <cp:lastModifiedBy>bdub40</cp:lastModifiedBy>
  <dcterms:modified xsi:type="dcterms:W3CDTF">2011-01-25T03:16:02Z</dcterms:modified>
  <cp:revision>3</cp:revision>
  <dc:subject/>
  <dc:title>Slide 1</dc:title>
</cp:coreProperties>
</file>